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7E9-7BE4-4E18-9618-4CA1A4E2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407-FAE3-4C46-8A3C-941C5404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642F4-01AA-46E4-8953-E3C9924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865AF-B797-4567-B40F-D7CDF2B3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9470C-AE78-4A2F-9E4D-F7115A12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B246B-0035-435F-BE99-D1516C40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455AF-2844-4E23-9D47-2344B9B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D5CB8-0E6A-49F9-94E0-45CB5E2F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8515C-BF71-48BF-A74D-8A098AC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6FA72-6587-49ED-9927-6CC14F1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7CAEF-C8A4-44C4-84E8-D50B1B96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70951-04D5-4407-85D0-61C419C2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617-FFCA-4133-83AD-978591E9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C1CB7-A08D-476A-B4B5-E744D881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67A6-D369-44A6-B43C-B1D3FF8D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A345-D785-4E39-BC9F-0B6B159D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CF50-BD57-4D4E-83C7-0AB7D7D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2EAA6-77AB-43AF-AD22-2952CC7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A5570-ADF4-47CB-B0F4-FE564EA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A240-55C5-4AE3-8DFE-9287DD70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7A003-4A12-429C-A1DD-D107B1E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967E3-E94B-499B-B433-DEE25B6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55A7B-BD14-44B4-8D8E-883C4D0D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941-F86F-4676-996C-8DD44EFC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C4DDA-A2F5-4D2C-8180-16B0BDA1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D5F6-4662-4788-BB4D-E0CDE3C2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29290-746D-4B4B-ADED-6B6E3A42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87FD-B5D8-4979-B3D4-03E7E9A0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01523-B0FB-4776-BE20-D7FFCA66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A30AA-D1E6-4EF0-9532-758C0CF9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DAAE5-FBBD-4801-941F-08E3699F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18E67-0024-444F-84F7-E4C838A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211A9-EACB-421C-9AA7-F8253A0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C223F-FEC7-46CE-94B2-1632ABF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2057-33FD-42E9-8CB4-511DA3ED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C394E-5F3F-4B49-84D4-B10F3F25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8A754-EA4E-48B3-A34E-89512F08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8CDE8-909A-4B75-9527-BD04B580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0D10-A707-45E9-8B9C-55C6378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5096-849E-4751-828B-0CC156A5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2FF09-7B41-48FF-AB62-797C257F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56851-9A3C-4B2E-955D-16691534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E07C9-323A-4A6A-9F6C-A506304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791DC-BC8A-493E-B12B-DD0DA087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076CD-3D8E-4A5D-AE3D-94B410F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2A6-5D56-4DA2-8369-E03A174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828E3-2544-40FF-AA65-60E581E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60C96-91E9-4931-8B1F-E56408D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83D3C-BE2B-4070-975B-433B547E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7CEB6-6EF5-4496-8953-FDB8F471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16769-5FB2-4F44-80CB-1800CC29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82B5B-EA3D-4D2F-8D2B-2AD11DA7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BF4C1-069F-4CBA-9F04-B377DB96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5639E-DE7A-4274-BDB9-DC452FD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D9610-4251-4736-8EED-758F5265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6E633-C6D5-4A18-8609-6724D7F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EEE-E67A-4A5C-AB41-6AD2072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D7536-8B45-4424-B934-E8D902B8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7BEFB-1D30-440D-9D33-C08A0A6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6BFD-E91F-4B8F-B7F8-6B1536E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96641-FFFE-44E3-9BB5-ED26B96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F54C3-757D-427C-930F-4D6B3700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3E0F9-6CA6-4910-93E9-46EBBB51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D109A-B67C-408A-AC9A-30B40278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19E57-0EE5-45AB-8C9D-A2A9EDFF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22F8F-C23B-42A9-8DA4-BBB1F914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4DE94-8607-4C0B-8F15-A8A7875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8A14-A5A6-4A4B-BB72-9A228B8B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268E0-2F25-4040-9168-DA4CDA1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C3ECF-B393-4B71-81A2-97244D7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47C53-764B-403E-86CB-26120E5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1E0E4-2B6F-46D5-A539-F0023FE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2DB3F-87A7-415B-8BEF-77741CF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CD35D-F693-429C-8D47-86C2432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3B84C-DAB6-4BD2-991E-3E1018C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FD38D-4140-4BE3-9396-83CDB26D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6333C-1644-436D-B385-84CEE609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2ADDD-9CDA-4A7D-BA0E-F3564B73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918-1200-40D7-A6CE-70BF75E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CC8E47-8CB7-4286-B996-F839E2B0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486D86-295C-43A1-B811-F57CBD7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E43A8-5B48-4B2F-AEDD-C6AA82F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70BB7-BC16-465C-9544-4BD9A474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8123E-B69D-46CE-9CB6-F29CE41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BDAEA-FB5B-4ED7-B1FF-5EC5E91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7027C-C647-49B9-A2AC-85EE3E6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1ECAB-4761-483E-8655-8CECFECE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2F8C0-6C22-4920-B917-84C732B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FBC08-DA0E-4A84-89ED-B686C87E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1A75-AB62-4259-A759-8DDE132F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C27D18-E14B-4269-B038-853BD9A8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5E418-5635-4677-B36C-2F938D1B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6042B-13AC-4036-A3E5-BF294BB8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26F59-9EFD-442F-873D-4F00C1F0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2C0F1-85D2-4BA8-A639-7A34C32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6862F-02DA-487A-BDFA-A3E5CCE3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9942B-4EC0-4638-AD3B-F2FFBD8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14227-4F34-4B04-B3AC-027F554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3B824-530D-41D7-B98F-CBA3CB2D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C1203-6BDA-4679-8622-4ADE787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61A1-A0BC-433B-B26D-12F0DF87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E6309-87F8-4702-9FA2-8657A9D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A42DD-C2B0-4727-B3C3-4D59BDC0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70420-AD3B-48FC-A0B1-83DA7CB3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45ECF-CAB2-4B28-BC22-DEB0C4BB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C5F00-1A3A-4A18-8816-F52E35D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EB5F0-3857-4069-8E5E-01B0D12A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9816A-7AE9-4268-A34F-A586217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49CB6-7A6F-4F9C-9418-6070D7B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537C7-666D-43D7-853A-5D3F2384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03EAE-08BD-406B-8451-2C3D6AF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C43-A844-4D0D-90FA-4A5B2B06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8628-FD48-486A-8D0C-BCCDD0F3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E5438-CDA2-4D66-9F7F-A543A64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1238F-EC82-462C-83EF-9D914EC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AEB5E1-5B9B-4618-8692-056D74BF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3088A-DFB9-430D-A3D8-65F64A12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2403B-4D10-4E6F-9885-4B3BE5F5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792731-5788-4D95-8788-732CC4EE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1BEF48-E67B-476A-9664-608FF51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4C6691-3FBD-435C-B627-3105A035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FE9CB4-7596-46E4-A1AB-EFF6908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A69416-32AB-4850-813D-030C6B63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01F5-6944-4F4C-B7E5-D664D0D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FD19E3-54EA-43EC-844B-EA60BDB6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A2F96D-37E3-4066-B4B1-8164BF7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4E7509-9854-4B97-B8DC-D3F4EE9E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FCBDA16-E005-4876-9D75-9FBC7D2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3A4455-20FA-459C-B131-AAB15FFE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3F6156-9EC9-4CF4-B22F-4896E0F2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F774BB-731D-42A4-9ED8-55F9ECD3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D3441F-C5AD-4419-94C7-C341DD02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97AE79-2106-4DC7-BF9C-C0E9C930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085D1CE-BA54-4AA5-BD3A-C66BF9E8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636F-8839-46C6-939A-EF05F882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A4CF951-8F6E-4C39-82F7-99401A6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5A9D53-1A5E-4F67-BE65-19E45B1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EC5622-965C-45A8-B52E-4C2D5C89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83751E-F8A3-41F8-80BF-E9B18867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6714EF-76F8-4420-A0F2-F71C718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6DEB20-D933-422F-A7D6-1D6853B5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537A5B-BE90-409E-A475-FD8E866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567DD4-55B6-4F91-8631-3F01C3E7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0FC9C9-A3E4-46DD-BDF4-D10B96C6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49F7A-EBB5-4249-ADBA-23117821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6925-FD9C-46F4-A12E-243CC670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1FA64-3184-4970-B321-99A71EF6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955AB-CEA9-479F-A9DD-7B2B354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8695E0-82F7-48E2-BEBD-E3839532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FEA11-19B0-4575-A49D-E3B2C16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5D8F6-8502-472B-B133-E739287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6465E-3998-4F36-88B7-0E66EBFD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2D71E-E337-4835-BA1D-4430435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27720-68D4-4B91-B5C7-340622E3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147CD-6D8A-47C1-8303-8A8E3B5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669EA-E337-4601-85F9-0F1F7BAA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07A7-B173-4990-B4D3-A4BBFBAC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7BAD8-4B4A-4091-A3A8-674EEA84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48C341-73C2-4722-91FF-6022524A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F3D9E18-046B-46D1-8734-A31D03A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0C3A04-3F07-4512-A5CB-5D14304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0CB407-532B-41BF-9EA0-92CCD4C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4B9D3D-D92D-477D-B99C-02382964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4269E5F-874F-4682-9861-173D202F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23E415-6D40-41DD-8E4A-2E59D66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4999BE8-E72B-48CC-9310-9306D47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526E89-4086-496A-9992-3603161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090E-2726-41AA-90E9-8C4316DA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B05142-2C81-4F63-9A96-E6ACD63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DCD584-27B0-4FE7-A059-4EBF252F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78630A-EBDA-48A9-938E-FFDB2275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23ADDD-CA67-441D-AAA4-18D040D3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8F4B1-5BDA-4E3B-B52A-4383A89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584772-14F3-4A53-A6DB-559AA7FC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506F1-31EA-4716-9E03-65DECE1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8290FC-EEA1-46B9-A695-AB7665AF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5E0C85-1E30-4C53-AA29-83489A2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324233-1522-49B4-91E6-C7D151BD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1E69-BCAD-4FA3-B624-C541FA2A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17FEE-34CF-40B4-AEE1-DB578E03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1CDCA-78EC-41E9-B4EB-901FACB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B6ACAC-CD86-4BC1-9535-1CD599C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EE32B3-D75B-4DDA-B702-4E1A48E0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CAD70-A35A-4942-B712-1CAF4875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CCBCAC-E9BB-4539-9A13-903DFAAA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004C8-7235-44BE-B401-723422B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32363E-B43C-4C10-8B16-D84815D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3F0DF-0A95-4B58-87B2-34CC8190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E74DF-1251-4E77-8918-8B356E7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7470F-C89F-43E4-AEB1-16350D0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D39A7A-2BEA-4E13-BB96-7A9D714E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2644C-611E-484B-83B5-99BD0E7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F7E4CB-BAA8-46D1-8C3E-8DC78FB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F50F4-3D8E-497B-AACE-3DE49B7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B66316-BBA6-4E1D-94CB-C46B115C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F1CC9-CFA3-403F-9602-B2078C9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1B70DA-B0DA-482C-8013-8AE631B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5235D-8EFF-4E61-8693-820799CD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093A76-A7BE-44F2-9765-3D9022B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890A7E-48DE-44B9-8E34-1B9C21A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763F-8076-4F95-89AF-513C6F4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0AE638-9449-4A8E-AFCC-0027583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B222F8-5A32-4001-B669-D6489F4B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AE363E-9A46-4DCB-B32F-8034DDB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B5C48-F019-4E31-AD77-A56DE19B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8832BB-AF89-4008-AB9D-105F516C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FF378-CB4B-4909-9218-8D16CE9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B5D8F-4F3C-4BD6-BE9D-A34CA52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63C5F-8413-4076-BC09-22E7BA1C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529A87-34E7-4622-B0D0-977CD673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E14CF3-1BC8-4C5A-8822-F2CE31E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408A-459E-49DE-A985-0FEEF222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3199D0-689B-4694-9C3B-962746D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2C7CAF-F012-43AE-B73F-6539CC5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9B226-6B7A-4BFD-A6D2-3E01CC46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85A209-1EB7-45E8-A6F1-31D1586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61F8B2-84E9-4AA3-98B9-8CAAABE3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A60AC-D534-402C-B4EB-4FF4CBF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1F9DBB-A5CE-48EE-BACE-7F4AD0F6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BCC2D0-05C1-4983-8304-56CF960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ADDA42-9C23-4DA4-9231-056E134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5E496-8D18-480E-AD22-0D72D8D7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FCC-1130-422C-96B9-B420899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4D1D-F316-4D15-8A2E-55FB4C1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92B67B-6C32-427D-991D-CEBE23D2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9D38BE-F273-410D-B1A7-DAEDD7BC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4E040-4EF3-4A9E-A777-4472F484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BEF73-FB0F-4EAE-B82C-3344D90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7609EA-DAED-492A-B1FA-70C9AB68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60262C-E99D-4945-B70A-500DCEA0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6BD8B0-0C10-4192-A4A0-A8AB7BD9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7ADF05-04B0-4417-850A-04BD296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4AA439-F114-4DF2-8843-70F08108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EF13F-C60E-4D3A-8B1A-D2375452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E067-E752-4E11-A714-C6150E0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5CE59B-0BA7-4540-8B71-1C1E179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3CE792-515F-4301-98D6-8C51AF73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BAFEAC-E825-4C8B-8EBA-52C5381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E682B-5CEF-4757-82D3-E1C6814B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BE48C4-BE81-4037-8CE4-32D90D18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F301C5-AC78-4161-B297-9F1B8EC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0D8789-E817-4445-BF3D-AC12BD0F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D031A4-F660-45E9-86DC-5E4DA65B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CF9C33-1AF1-4CA9-A07E-C1B5265D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56370A-7B13-487B-8469-ED0002F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47B3-7DE7-4E5D-9665-7F57583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D51ECB-DDDF-42E6-861D-8A5546F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0E3EBF-17EA-4066-BC3A-4783D9B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1C3115-90BD-4303-A21D-4C0E888E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9199D6-5306-46DE-B691-16640CD4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47D379-6A85-479D-8014-DBC7452E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649E04-3888-4F8F-A883-545D37DE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FC8A0B-6174-41DA-B5C8-A3C90A4F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A92B29-DE9E-4B97-8AA9-67EC20D9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B32B7E-57A3-45EE-81AE-CF3EAC82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1CB7EA-0C3C-4DA0-97DC-A20E06B6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9A54-0846-46AA-A92F-BAA4B2D7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B817A1-82E0-40B0-ADA9-B97B7C3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0DE68D-9597-431C-8ACA-8F23DEF7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B85197-27E0-4935-B55D-BE2648FC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F8AEA0-D31C-4E6B-9E77-62C4A2E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ADCC62-0A2D-4C97-BE52-B47BE51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C74D2-95C5-4985-B2A7-6493AFA4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03EE4F-C264-4F6E-9D44-5360F7C2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5E5868-1926-4EE0-A31C-29C2CDF6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CAA0AA-570E-4DD1-A1BB-5D1D5AF8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8E55DC-8A3F-4911-851A-E4102E6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7886-C5FA-4D80-966C-1C365DBC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1ADCD1-6E38-4AA3-9CD6-6DE7F7A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756487-A0C4-4338-BCE4-D6378816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14F4BA-13C2-45D8-B767-F99169E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8DE562-799D-450E-ABCA-785E0541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BC0CA3-D67D-4C55-ACAC-7AF5B41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8F5FBD-3EB8-47AF-9AF1-11ACD159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613611-A617-4559-8764-3BCC034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8163E4-BE77-4E4C-9EE1-A39C6885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66EB6B-3735-4F30-88B9-EE36D5E4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3D6689-E626-4A47-B248-EE5115C8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669A-E75D-47AD-ABD7-D419C576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9D9730-F430-4A38-877E-617D072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0D2196-DA0E-446A-B681-19E46227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49B9AB-8BB6-4B28-AD9C-8184C584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C53A53-E949-49AC-9321-827C803B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0074A3-2C1C-4724-9343-84C2DEA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784D60-D61E-4569-A137-3FED5CD9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7B8204-9EE8-41DF-B9BF-829AFB0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2CDD2C-256D-4A7A-B3D9-E066AF5E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64877D-B05B-4E3F-B2FB-1F9F682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DD4A0B-486D-4CA0-9147-45E5E5EE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2CE5-CDE2-4E09-9711-B1AE6989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25019A-83AC-4CC0-9B38-46BE2DA3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90F686-C8F5-47BF-9110-D6B0843B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528A3E-C195-441D-B6F7-A628580F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EA7816-0C75-4276-BA62-CE5DB22D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82BCAC-ECCF-41A9-B9E4-97ACDBA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4AF945-863B-4336-A884-F2B5004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C522BA-16FC-4329-B0D2-6440EC4B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2BCA31-2A7D-42B1-ACBE-296DCD9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F9B8E4-B451-4663-AF51-BA66E4E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CAF3C8-088C-46BC-A7D7-94E9791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4647-68A0-401B-A659-FE671CB2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3BBAC1-AFCC-40B5-B763-9AD79008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82ED4C-F341-4FC2-BC70-91D0F6F8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9431AA-CB34-471D-80BE-CD3DCB13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9C39-643D-4839-9052-9C17F378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FC372-D944-4455-A6B8-7DCA88E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60B-1EA4-4444-B186-16DA2C5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0226-5DDC-48AE-B25D-7E7D4046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40DE-4E10-43C4-B206-1712F539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0ABD0-DE99-4C2F-AB3E-C265F260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B501-B291-4A3A-AAE6-A0599AC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6AC7-55F6-48EB-913D-3834B76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6341-0BE6-4B80-82A6-1B6D26C7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D4F6-CDB9-4CEB-8882-E7DE4B2F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51CCC-D86A-4736-B707-A35B4C23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314F-3995-4F65-A6EB-9299849E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F74AF-0E90-4DEA-9572-510CE52F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3E6-8A70-4DA5-9BC0-4F2BAF46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0B31-F032-4F8C-8A91-19B23AE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D063-5C6A-4469-895A-8AB4171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30DE-6A8C-40F9-BC24-464EABC5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6EA3-903B-438E-AE40-D812E5BE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58AE-12DC-41DC-96CF-9B44B95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AE19-2140-460C-BA47-CE2B6DD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6FD3-85FF-4B50-B21E-7BFA660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F0FF-FEF0-46B3-917F-60CB8CE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F8D9-2E63-428E-82F5-CD48F2D7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24D7-E84F-4937-ADF5-A628F7D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F21-8922-47F0-86FC-7FFE872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3B3EE-F7D5-4349-A294-076B8B0C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C933B-462D-482F-9421-7A9DFD19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E6F3-D9A7-4716-B71D-143C3B3C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2E9C-CB94-4A88-8AED-3028BDF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8A560-DB7E-4307-BB40-B9CA9120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A3D83-76BC-4C71-916A-8177CBA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2984-12FC-4B53-8AE6-E134AFA5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049A5-916F-47FB-8DB1-7E940F1E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31D5-6469-41E7-BA4D-0F79D20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9E959-F2D5-4E42-AAC9-222E217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AEE-CD19-4801-ADEF-CDFACE5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E244-FA35-4D60-9625-A5A8170F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67A19-5A62-4860-9F7F-7746F779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AB84-9360-4789-B71C-D8596D0B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31FA-7762-44C2-9B41-6F6E3008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23E3-6C89-4496-8EB3-0A2F8BA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C4440-B99E-40EB-B971-0A54E4D5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3B6CD-2E85-431D-8496-D394A27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CE9C7-70E0-4BF0-9FE8-A2149140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B98E-A5B6-4B80-9E3B-DC2C7871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8FDA6-8795-4234-B5E5-0931B96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5A5-F0B2-422C-8BBE-3A45099A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BC19-3127-4B0C-8619-AA5FD23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80ED-9798-4E76-B597-5AAAB7B7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FB06D-625B-4D8A-BBAE-B2D5D78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9265-2149-4113-AC7F-8A38665A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110D-12F0-4A9A-89E5-5C12C4D3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3B697-B90E-4234-BCFA-752DE668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DD9C8-E7C1-424A-9873-A2F0250B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DFA1-E642-4052-9A87-03E08DAB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9426-E60A-476E-899F-911F0EF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3F34-7295-4B2E-AC1D-BA7A41E7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A08-9ADA-4640-ADAA-E2FEBA09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F243-711B-4B00-8D90-3A0593B1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C617D-B72D-4C8C-8AF6-E0786238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C785E-9B7D-42D4-A48A-0C750B26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0292-B381-4254-9183-0BAF1BF7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88ABB-1D8A-46D4-BE4F-E0D8E75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E10B-2BD2-4A5D-9E49-0C33B5B4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4416-B044-49CD-A49C-2E0CDEF4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EA1A-5748-4953-98A5-8BF76148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D3439-53F1-4190-93D8-9857D5B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C5B7-BE37-4E04-BAC3-BA6C797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D174-CDD0-42AB-9303-9CD46A776A9D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DD7-4B2A-4E06-97B4-C640CD2EC789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D124-9BC3-4651-A32C-B803387B803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555E-F71C-4A92-8B67-949EA545840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3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FE7-9147-49C8-9D40-394400454023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7CD-A957-4E8F-BB0F-AD26C747B07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AC0-7EA1-4CE7-8EB1-C7457003FC0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52AD-8BEC-4BDB-B9A3-261F832CAC7D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347-4040-40CE-8626-2F8862C350BE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sldNum" idx="52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8FDD-A3E6-4381-9759-48AEA08FCBD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dt" idx="5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ftr" idx="54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sldNum" idx="5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E7C6-5083-4C85-AEAB-5E80C966A67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dt" idx="56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ftr" idx="57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55D-64B8-444F-AEE2-C520FEA47F0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9068-53F9-4D62-A6A9-7545110D380C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Num" idx="6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B127-FF31-41D6-9C5B-C423729B310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dt" idx="6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ftr" idx="6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97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99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75B6-8C18-4931-B986-C9B2EB1189B9}" type="slidenum">
              <a:rPr b="0" lang="en-A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04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D70E-D471-487A-88E4-67960C2AC194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FB4E-95B9-4E34-BD15-9EF62EF93D46}" type="slidenum">
              <a:rPr b="0" lang="en-A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2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1C10-ACE9-4A37-A021-9EC622636B63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7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7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7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7B21-620E-47B8-9A57-F89B19EF1637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7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8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F99F-206D-4411-8A2A-8230BEFAF1E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 type="dt" idx="8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 type="ftr" idx="8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 type="sldNum" idx="8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2A7D-EF52-49B0-A35C-EC46AA89B2F9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 type="dt" idx="8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 type="ftr" idx="8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 type="sldNum" idx="8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45B1-68A4-4672-AAFA-C890D3F33306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6C51-39FC-4B94-AA0A-6F55D0F93804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8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9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1FF-9817-4DDF-9213-4E9185914F73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0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B04E-4176-4861-81D6-BD366A73885B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DC5B-6562-4FE5-9768-C843FA6E2A1F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B60-B92D-47C6-8815-C427EE62EB62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F8E7-557C-4DC8-9167-382EDD938B0C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6E8-184D-4D95-B3C7-7F7F0C9485A4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E9DE-C34D-4E0A-90AD-73B6101C4A1E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9AA2-FA74-47B3-8D57-4BBD87B3F152}" type="slidenum">
              <a:rPr b="0" lang="en-A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ECOSYSTEMS DIFFER IN PRODU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Food webs, food chains, pyramids – you can also look at ecosystems through their productiv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Productivity is the rate at which chemical energy is produced in an ecosystem – expressed as ‘gram of organic matter per square metre per year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60948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Georgia"/>
              </a:rPr>
              <a:t>Primary Productivity of Ecosy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Gross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GPP) is the rate at which an ecosystem's producers convert solar energy into chemical energy as bioma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 Net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NPP) is the rate at which energy for use by consumers is stored in new biomas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NPP = GPP – R [rate at which producers use biomass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Productivity of ecosyste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Georgia"/>
              </a:rPr>
              <a:t>Generally ecosystems with the highest net productivity are those with the greatest accumulated producer biomas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Georgia"/>
              </a:rPr>
              <a:t>The higher the net primary production of an ecosystem, the more food is available for consumer organisms and the greater the biomass of consumers living in that ecosystem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0" name="Flowchart: Alternate Process 3"/>
          <p:cNvSpPr/>
          <p:nvPr/>
        </p:nvSpPr>
        <p:spPr>
          <a:xfrm>
            <a:off x="428760" y="3643200"/>
            <a:ext cx="1571400" cy="135756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producer biomas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1" name="Flowchart: Alternate Process 6"/>
          <p:cNvSpPr/>
          <p:nvPr/>
        </p:nvSpPr>
        <p:spPr>
          <a:xfrm>
            <a:off x="3357720" y="4071960"/>
            <a:ext cx="1842840" cy="125568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photosynthesi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2" name="Flowchart: Alternate Process 7"/>
          <p:cNvSpPr/>
          <p:nvPr/>
        </p:nvSpPr>
        <p:spPr>
          <a:xfrm>
            <a:off x="6429240" y="4500720"/>
            <a:ext cx="1714680" cy="1428480"/>
          </a:xfrm>
          <a:prstGeom prst="flowChartAlternateProcess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Georgia"/>
              </a:rPr>
              <a:t>More chemical energy stored in organic mat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1443" name="Straight Arrow Connector 9"/>
          <p:cNvCxnSpPr/>
          <p:nvPr/>
        </p:nvCxnSpPr>
        <p:spPr>
          <a:xfrm>
            <a:off x="2214360" y="4357440"/>
            <a:ext cx="857880" cy="28620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1444" name="Straight Arrow Connector 11"/>
          <p:cNvCxnSpPr/>
          <p:nvPr/>
        </p:nvCxnSpPr>
        <p:spPr>
          <a:xfrm>
            <a:off x="5428800" y="4929120"/>
            <a:ext cx="786600" cy="3578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y does a desert ecosystem have a lower productivity than a tropical rainfore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What affects do temperature and hours of sunlight have on productivit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List some </a:t>
            </a:r>
            <a:r>
              <a:rPr b="1" lang="en-AU" sz="2600" spc="-1" strike="noStrike">
                <a:solidFill>
                  <a:srgbClr val="000000"/>
                </a:solidFill>
                <a:latin typeface="Trebuchet MS"/>
              </a:rPr>
              <a:t>limiting factors </a:t>
            </a: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for ecosystem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Explain why Australia does not have rich fishing grounds near its coas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47" name="Picture 3" descr="(1).gif"/>
          <p:cNvPicPr/>
          <p:nvPr/>
        </p:nvPicPr>
        <p:blipFill>
          <a:blip r:embed="rId2"/>
          <a:stretch/>
        </p:blipFill>
        <p:spPr>
          <a:xfrm>
            <a:off x="3571920" y="4692600"/>
            <a:ext cx="1214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40640" cy="126216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89000"/>
          </a:bodyPr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If light is needed for photosynthesis, but does not penetrate to the depths of the ocean, how does a consumer in ocean darkness feed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Explain how producers can exist in the dark depths of the ocea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Explain the difference between </a:t>
            </a:r>
            <a:r>
              <a:rPr b="1" lang="en-AU" sz="3000" spc="-1" strike="noStrike">
                <a:solidFill>
                  <a:srgbClr val="ff0000"/>
                </a:solidFill>
                <a:latin typeface="Corbel"/>
              </a:rPr>
              <a:t>photosynthetic</a:t>
            </a:r>
            <a:r>
              <a:rPr b="0" lang="en-AU" sz="3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organisms and </a:t>
            </a:r>
            <a:r>
              <a:rPr b="1" lang="en-AU" sz="3000" spc="-1" strike="noStrike">
                <a:solidFill>
                  <a:srgbClr val="ff0000"/>
                </a:solidFill>
                <a:latin typeface="Corbel"/>
              </a:rPr>
              <a:t>chemosynthetic</a:t>
            </a: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 organism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What is the energy source for photosynthetic organisms?  What is the waste produc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57560" indent="-45756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orbel"/>
              </a:rPr>
              <a:t>What is the energy source for chemosynthetic organisms?  What is the waste produc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Line 5"/>
          <p:cNvSpPr/>
          <p:nvPr/>
        </p:nvSpPr>
        <p:spPr>
          <a:xfrm>
            <a:off x="5638680" y="2954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Line 6"/>
          <p:cNvSpPr/>
          <p:nvPr/>
        </p:nvSpPr>
        <p:spPr>
          <a:xfrm>
            <a:off x="5638680" y="339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Line 7"/>
          <p:cNvSpPr/>
          <p:nvPr/>
        </p:nvSpPr>
        <p:spPr>
          <a:xfrm>
            <a:off x="3200400" y="50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3" name="Line 8"/>
          <p:cNvSpPr/>
          <p:nvPr/>
        </p:nvSpPr>
        <p:spPr>
          <a:xfrm>
            <a:off x="3200400" y="5510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454" name="Rectangle 9" descr=""/>
          <p:cNvPicPr/>
          <p:nvPr/>
        </p:nvPicPr>
        <p:blipFill>
          <a:blip r:embed="rId1"/>
          <a:stretch/>
        </p:blipFill>
        <p:spPr>
          <a:xfrm>
            <a:off x="42840" y="396720"/>
            <a:ext cx="7716960" cy="871560"/>
          </a:xfrm>
          <a:prstGeom prst="rect">
            <a:avLst/>
          </a:prstGeom>
          <a:ln w="0">
            <a:noFill/>
          </a:ln>
        </p:spPr>
      </p:pic>
      <p:sp>
        <p:nvSpPr>
          <p:cNvPr id="145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otosynthesis: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of chlorophyll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Energy storing proces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solar energy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llular Respir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erobic Respiration: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energy releasing proces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(ATP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aerobic Respiratio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.  Fermentation: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energy releasing proces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used by yeast and bacteri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3:56:39Z</dcterms:created>
  <dc:creator>Lyn Clarkson</dc:creator>
  <dc:description/>
  <dc:language>en-US</dc:language>
  <cp:lastModifiedBy>Lyn Clarkson</cp:lastModifiedBy>
  <dcterms:modified xsi:type="dcterms:W3CDTF">2007-10-26T01:24:27Z</dcterms:modified>
  <cp:revision>12</cp:revision>
  <dc:subject/>
  <dc:title>ECOSYSTEMS DIFER IN PRODUCTIVITY</dc:title>
</cp:coreProperties>
</file>